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2C270C-4B0E-4758-A69D-6E3029131A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E2CC46-DA99-46C2-8BFB-0FA577B87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897B57-DEDA-4CC1-A03E-68D263A7EE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E704CB-CDBF-4CC4-AE56-B93001D2FC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FCDB75-37CA-4A79-B808-1F17678C80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18C4F-B430-4DAD-ABBE-DCEA9935C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AEA14-7622-43A6-B8CA-FB4F825B9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CE19E-E456-4ADB-AC73-B40D594A3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2371A-5DCF-458F-961E-FBF78F619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8E871-047C-4C0E-A055-49EB59B98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2D2EB-4F2B-4182-ABDC-3E1F35214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25B982-8F3A-4E94-8553-2BE21C55B6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057CF-45BD-4410-883B-F883AF7F3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581B2-733C-479E-8C2A-89A6422C6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8868E-0BFD-4CC8-9110-209B0A6E6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3F57E-BE3D-4B57-9D4D-87CE17197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EE74FD-385C-493E-AC60-CFDCC0D402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A1CC9D-EE8E-4BFE-AE34-446B221674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F2F723-66F9-4465-BFC1-DF1F4E393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D03C79-D8B2-4FE4-9D16-C5F86DEB5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A410B9-F1B8-4E8E-A0FE-6369797BF2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135A8D-5F35-4FDD-9568-5DAF54F83F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8176CF-69A1-4A73-BF40-8DEE084799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2BA115-BB9C-4533-976A-3A004F254B4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0F0C-CCC5-404C-854B-6B8DF29ED82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5460-A20F-4E58-9730-963288653E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English</a:t>
            </a:r>
            <a:endParaRPr b="0" lang="en-US" sz="4500" spc="-1" strike="noStrike">
              <a:solidFill>
                <a:srgbClr val="ffffff"/>
              </a:solidFill>
              <a:latin typeface="Arial"/>
            </a:endParaRPr>
          </a:p>
        </p:txBody>
      </p:sp>
      <p:sp>
        <p:nvSpPr>
          <p:cNvPr id="115"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ct. 15</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genda</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L</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brary working on essay assign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DOL</a:t>
            </a:r>
            <a:endParaRPr b="0" lang="en-US" sz="3900" spc="-1" strike="noStrike">
              <a:solidFill>
                <a:srgbClr val="ffffff"/>
              </a:solidFill>
              <a:latin typeface="Arial"/>
            </a:endParaRPr>
          </a:p>
        </p:txBody>
      </p:sp>
      <p:sp>
        <p:nvSpPr>
          <p:cNvPr id="11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ssay assignment</a:t>
            </a:r>
            <a:endParaRPr b="0" lang="en-US" sz="3900" spc="-1" strike="noStrike">
              <a:solidFill>
                <a:srgbClr val="ffffff"/>
              </a:solidFill>
              <a:latin typeface="Arial"/>
            </a:endParaRPr>
          </a:p>
        </p:txBody>
      </p:sp>
      <p:sp>
        <p:nvSpPr>
          <p:cNvPr id="12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533520" indent="-533520">
              <a:spcBef>
                <a:spcPts val="7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use of Power.</a:t>
            </a:r>
            <a:br>
              <a:rPr sz="2800"/>
            </a:br>
            <a:r>
              <a:rPr b="0" lang="en-US" sz="2800" spc="-1" strike="noStrike">
                <a:solidFill>
                  <a:srgbClr val="ffffff"/>
                </a:solidFill>
                <a:latin typeface="Arial"/>
              </a:rPr>
              <a:t>In Chapter 6, Brother Leon compares his classroom to Nazi Germany. Research Nazi Germany, particularly about how Nazi leaders inspired support, fear, and obedience, and why ordinary citizens supported or remained silent in the face of brutal tyranny. </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ssay-cont.</a:t>
            </a:r>
            <a:endParaRPr b="0" lang="en-US" sz="39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 five paragraph essay explaining what Nazi Germany was like, and how Trinity School was similar.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the template that I give you.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5:22:36Z</dcterms:created>
  <dc:creator>vhs</dc:creator>
  <dc:description/>
  <dc:language>en-US</dc:language>
  <cp:lastModifiedBy>vhs</cp:lastModifiedBy>
  <dcterms:modified xsi:type="dcterms:W3CDTF">2009-10-14T15:30:34Z</dcterms:modified>
  <cp:revision>1</cp:revision>
  <dc:subject/>
  <dc:title>English</dc:title>
</cp:coreProperties>
</file>